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media/image7.pct" ContentType="image/x-pict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DB4-E2D9-43F3-A785-58A05EF4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16C-732A-423B-AB2D-302630FE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639-2D10-4EAA-844F-FF45C498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AA6-480A-4B35-A1E2-DCAE5479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D27-FDDE-4293-BEE4-CA767091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10B-FFF0-4A15-BED6-F5F1CFA4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05A-9E35-4362-AF23-4F08C6DA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5B9-A560-4CDC-AAD9-67C24AFA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345-7041-4147-9597-E12954DF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DAC-9E8A-485F-85FD-9FBA440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516-7B72-47DE-A151-3A7C2C45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144-56EF-4BB9-A8B5-F3A1AE2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D83D-3D2E-462B-9551-C86A44372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fd293"/>
                </a:solidFill>
                <a:latin typeface="Curlz MT"/>
              </a:rPr>
              <a:t>Archaeology</a:t>
            </a:r>
            <a:br>
              <a:rPr sz="8000"/>
            </a:br>
            <a:r>
              <a:rPr b="1" lang="en-US" sz="8000" spc="-1" strike="noStrike">
                <a:solidFill>
                  <a:srgbClr val="dfd293"/>
                </a:solidFill>
                <a:latin typeface="Curlz MT"/>
              </a:rPr>
              <a:t>Our </a:t>
            </a:r>
            <a:r>
              <a:rPr b="1" lang="en-US" sz="8000" spc="-1" strike="noStrike" u="sng">
                <a:solidFill>
                  <a:srgbClr val="dfd293"/>
                </a:solidFill>
                <a:uFillTx/>
                <a:latin typeface="Curlz MT"/>
              </a:rPr>
              <a:t>KEY</a:t>
            </a:r>
            <a:r>
              <a:rPr b="1" lang="en-US" sz="8000" spc="-1" strike="noStrike">
                <a:solidFill>
                  <a:srgbClr val="dfd293"/>
                </a:solidFill>
                <a:latin typeface="Curlz MT"/>
              </a:rPr>
              <a:t> to the </a:t>
            </a:r>
            <a:r>
              <a:rPr b="1" lang="en-US" sz="8000" spc="-1" strike="noStrike" u="sng">
                <a:solidFill>
                  <a:srgbClr val="dfd293"/>
                </a:solidFill>
                <a:uFillTx/>
                <a:latin typeface="Curlz MT"/>
              </a:rPr>
              <a:t>PAST</a:t>
            </a:r>
            <a:r>
              <a:rPr b="1" lang="en-US" sz="8000" spc="-1" strike="noStrike">
                <a:solidFill>
                  <a:srgbClr val="dfd293"/>
                </a:solidFill>
                <a:latin typeface="Curlz MT"/>
              </a:rPr>
              <a:t>!</a:t>
            </a:r>
            <a:endParaRPr b="0" lang="en-US" sz="8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352440"/>
            <a:ext cx="4552920" cy="650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3962520" cy="2641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62720" y="762120"/>
            <a:ext cx="2819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etta Stone – Ancient Egyptian letter writing, translated into Gr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cintosh HD:Users:rjadick:Desktop:Close up of the Rosetta Stone at the British Museum, London.mp4" descr=""/>
          <p:cNvPicPr/>
          <p:nvPr/>
        </p:nvPicPr>
        <p:blipFill>
          <a:blip r:embed="rId1"/>
          <a:stretch/>
        </p:blipFill>
        <p:spPr>
          <a:xfrm>
            <a:off x="1525680" y="1146240"/>
            <a:ext cx="60973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850 and 1890 five lost civiliza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foun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how can ARCHEOLOGISTS figure out when an artifact was created??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133720"/>
            <a:ext cx="8001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thod: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ooking at three main time perio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one 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ronze 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ron 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343400"/>
            <a:ext cx="7391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thod: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ooking at two main catego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od Gather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od Produc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MOST ACCURATE METHOD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6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illiam Frank Libb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scovered that everything on earth contains something called CARBON – 1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bon 14 gradually disappears as time goes on, so by measuring the amount of Carbon 14 an artifact has, we can tell how old it is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ink, Pair, Share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out the words archeology and archeologist.  What do you think they mean?  You have 1 minu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f with someone sitting next to you.  Discuss the ideas you both came up with.  You have 1 minu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3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r ideas with the whol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ow do we learn from the past?!?!?!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aeology:  The study of remains of past human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eologist:  A person who studies these ancient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ources to help us learn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things we can use in History to help us learn about the pa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Source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s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hand information, which is very reli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Source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n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hand information, comes from someone who wasn’t actually there but knows abou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ow did this all begin?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aeology beg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ears ag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aeology started becau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pe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g u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tues and orna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de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cient Greeks and Ro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began to study the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rtifa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rtifacts are things made by ancient peopl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tudying artifacts we can lear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bout how people lived long a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tifacts can 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made by ancient people.  Including: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eapons, Tools, and Potte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895840" cy="212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162216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00400" y="2971800"/>
            <a:ext cx="2193840" cy="3048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GREAT ARCHEOLOGICAL FINDS!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mpeii –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 Italian city that was completely covered with ash from a Volcano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4197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going to watch a short video clip showing us what archeologists found in Pompeii and what happened the day the volcano erupted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6858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ins of Pompe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Macintosh HD:Users:rjadick:Desktop:Bodies.mp4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7680" cy="342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10666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6800" y="38088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ompeii looks like TODA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Macintosh HD:Users:rjadick:Desktop:Pompeii Today.mp4" descr=""/>
          <p:cNvPicPr/>
          <p:nvPr/>
        </p:nvPicPr>
        <p:blipFill>
          <a:blip r:embed="rId1"/>
          <a:stretch/>
        </p:blipFill>
        <p:spPr>
          <a:xfrm>
            <a:off x="1525680" y="1717560"/>
            <a:ext cx="6097320" cy="342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2:02:14Z</dcterms:created>
  <dc:creator>Aldo Belardo</dc:creator>
  <dc:description/>
  <dc:language>en-US</dc:language>
  <cp:lastModifiedBy>CCPS</cp:lastModifiedBy>
  <cp:lastPrinted>2007-08-30T13:01:41Z</cp:lastPrinted>
  <dcterms:modified xsi:type="dcterms:W3CDTF">2009-08-31T23:25:08Z</dcterms:modified>
  <cp:revision>5</cp:revision>
  <dc:subject/>
  <dc:title>Archaeology Our KEY to the PAST!</dc:title>
</cp:coreProperties>
</file>